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85B8-52F8-48B9-8234-46400AEB6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8E4F-5A92-41FF-91CA-36A8E8D20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609-01C5-4BAB-8D67-65FB5098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2E2-0E53-483D-861E-0877F0DF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897-3A31-41AE-983C-6493D9CD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681-E2C2-45EA-BB18-AEABC0D0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9476-C461-4CF9-BD4D-DBF1BC93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3C5D-C416-4416-A5D5-030ACAB5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49CB-3CD6-4333-8123-CCE3597D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4B0F-B06F-41FE-848B-014FE3BB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879F-89AC-46B1-BBEE-E312C52F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7EF4-DDB8-4722-860D-DC850C09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CFE5-4026-4D4B-A5D5-A1307127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777-3296-43FC-873E-BAA2CFED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AD45-F625-4B9F-B5BC-CC2A96D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CD7F-646F-4471-9542-C52615A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7533-A6E8-41E4-B5AE-BD0F0C4C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C9E5-7CD0-4E8E-B28F-3AD3EB06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AEBF-6987-4623-BECB-2BAF6722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2A8-4367-4F16-B019-323BEBAE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856-4732-4BB2-B48C-53314F43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410-960B-4EE2-BFB0-55F1372C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055-CECC-4436-921A-735C4282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870-EFA9-4856-A73C-B803852A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2CA-2F9C-4ECC-B200-FE25991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A99-0E01-4FBF-9D2B-AF8130FA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DEE-A030-4660-AFEB-E5DCA17FD2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64DC-E963-4443-8498-C782C8DA1BC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E868-8E9A-44DE-B06A-9AF55C238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3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0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3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3520" y="1828800"/>
            <a:ext cx="7859520" cy="398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каз Минсельхоза России от 06.03.2020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1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утверждении порядка посева и посадки подкарантинной продукции, ввезенной в Российскую Федерацию из иностранных государств или групп иностранных государств, где выявлено распространение карантинных объектов, характерных для такой подкарантинной продук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47F3-B1A1-4DF2-A0C3-81C69133C9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9784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314280" y="45072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4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67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7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2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04.04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741240" y="2362320"/>
            <a:ext cx="8066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почта (krasn.zemkontrol@mail.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9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87880" y="1676520"/>
          <a:ext cx="5630760" cy="457200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188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1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5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9000"/>
          </a:bodyPr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ям Правительства РФ от 14.03.2022 N 362 «О введении временного запрета на вывоз зерновых культур за пределы территории Российской Федерации», а также Постановлением Правительства от 31.03.2022 № 529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С 15 марта по 30 июня 2022 г. установлен временный запрет на вывоз из Российской Федерации пшеницы и меслина, ржи, ячменя и кукуруз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Абхазия, Республику Южная Осетия, Донецкую Народную Республику и Луганскую Народную Республик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азовых лицензий на экспор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данных Министерством промышленности и торговли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Белоруссию в рамках Союзного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 апреля по 31 августа установлен запрет на вывоз рапса и подсолнечн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государства - члены Евразийского экономического союз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7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41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1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8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4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7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4-05T02:38:33Z</dcterms:modified>
  <cp:revision>9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